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7D8A-C599-4FD7-8096-14F0718C8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C43B-DE14-4141-AA18-BEAE7CBA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93BFE-753E-4351-B8B2-8D3C4DE9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8E656-33B0-4303-A98C-967D15F2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645F8-1E7F-4529-8181-9A3F0013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3284AA-AED2-4698-B778-880F7200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D63DF-D82A-44A5-AF6C-39FBBD58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9E266-F9C5-47A1-AE2B-E61D7C10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CFAB3-F845-4E74-B26A-2CC95BC2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8C6DC-6B94-4D90-B935-620C925BB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D51AA-32C0-427B-8783-A24FE10D5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3D2ECC-625A-4A4D-BE18-94778917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3C63-AD10-402E-B4B6-7A872E8B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AC029C-9F61-4851-A136-95084B84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E96DE-2371-4A37-8247-C21F93C6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13A3D7-5E98-4140-96F3-F3E263F2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3B07D0-67AA-4B6B-A7E4-647A5FDA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F4A5C3-B759-4FF0-B1B8-CB1F4AA3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117C2-809A-4ED5-AF5A-284FE0E8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1F551F-C48F-496F-BBAE-AEA36ED6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1070A-6868-4013-B19A-03ABA3FC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BD4BE-8E0B-4FB6-BE7F-EEB78AFD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8EF2B-E46C-4CFB-BA0F-0715082D6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067B-39E3-4A27-9EB1-A8C4ACCC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B2844-9E96-4506-8815-ACF5CA3C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83408-FAA0-4C32-9F3C-9E4A46318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8141B-1E2E-4032-87B8-95977553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E8823-FF5F-4600-A5A3-8F85C32E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3DBD9-C0FF-4405-9F4E-571466D4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5F74F-D393-4573-94E5-AE48C32E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28C07-A75D-4890-A3F4-37DAE6D8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E84AE-1E0A-444C-BEC1-DDAA6259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6AACD-7320-45F7-A7DE-CC3F708B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B4E82-1F8D-4061-B59F-B4AAFDDC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93EA-7279-4509-9D2E-B08BF649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08083-22A0-486A-BBBA-2E449DDE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CF51F-FA11-405C-B97B-FBA4417A0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52289-11BE-4976-9EC5-15CBDC57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F6FD36-6C57-4834-A2F6-0EA28AC6F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CF131B-56DB-4BB8-9C65-46DBCEB6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62229-EDD3-433D-8752-9DCD171D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8C84F5-474A-4293-AE6C-FEA7541B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5753B-EA8B-4492-98BF-57DFC6BB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6B6583-B1CD-490D-A5DD-719E84CA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815F97-128A-457E-AB8B-F5025655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E77B-DE11-4246-82A7-1D4D0405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976E28-028A-4C9C-B4E7-8DDE7815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FA780-0B34-4D1A-8E64-4BA2079B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94ED9A-2F2F-44EA-A086-7E561E92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327F6-8FCE-458D-B7DD-19A9F7256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16D3BF-DB8E-4175-81FB-97D6DF84D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817753-45E9-49D7-93F4-1E2860044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FA4A3A-9ECE-4B46-B003-4678E444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FC07C1-48EC-4CA6-A40B-C81ED9DF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36F0C4-5325-46FA-9449-BD9751AF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91BC03-A147-4FB7-8E5A-F5B2E34C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0789-EFD8-4FB4-AD52-40293025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54245A-4258-4207-BBE6-8989FF6F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9395FF-A683-44D0-A418-F1E76334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B23C47-21FC-4EB6-BD9E-DD6EEFB4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BC6C16-71B5-4BC6-9AFD-A9A7AED1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6FEFF9-EF61-406E-BB00-AE3BFEAA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459F4B-298F-47AD-9EF7-18740970E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F7AC5C-3455-421F-9DD5-C43C41E1A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184750-1607-408E-A079-CC016414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5BACD7-32B4-4B7E-BE2E-E3992FAE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C05BF8-2B27-414D-8B6A-06051DFF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856D-C741-4997-BF28-B46C6AE2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53617C-D8A4-4C82-898E-D880A37A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9AF0B1-0E2E-4B70-97E8-71F78883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45DA57-3160-454D-852E-FBA28870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48A7E8-39BA-4866-B760-2C0E5E89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464533-2439-48C1-AC50-BCEB88E4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D59B06-8933-43AC-9EDC-A55F24F6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17C8A9-9A03-4059-BFBE-085CFD87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8EDCDF-DFD7-4C17-83C5-89396B830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229E26-5ACB-4368-AC24-4DEC251F5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565EA6-B581-438E-9A62-CAB8151C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FACE-8FFF-4AFF-BEF3-65A4B42B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5CA77F-8AD2-4FC6-B9F8-0D4236E1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9482B3-AD98-442C-9206-961AE179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BF7D22-001D-4BF7-A552-ED34D3B7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FEA4E6-555F-49FA-A03A-A2CA340D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4DAFB8-0289-4212-BBCE-7229D67D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911327-FA6C-4273-9D27-5BBD01B1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1F42CC-A1D2-49FF-A0C7-9608298E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25E3D6-F2B7-4168-A361-7619C7B6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4DC480-3AA7-452E-8196-2D0502FF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F89D1C-48C9-4F94-9189-8419FA245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2AB0-8539-4E2E-A9DE-3BF85122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0C1ECF-BF98-407E-B312-5B5E741A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640A43-3BE3-4E7D-847A-5DBD0E10F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181551-09BD-4B0A-A944-7DA3EC4D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61452B-8D7B-4FF7-9D3B-8C6E6055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490F67-200B-4121-B44B-F99345BD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921960-2207-444E-AC9B-6146BF70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D4E7FF-DC73-4031-A84E-F86EA1A6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F861DC-36A5-402B-8A41-98FA9EBF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B44B46-9B8A-4814-B380-39B816D2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135CAB-997B-4530-90BE-214B9A6A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8E12-7ADD-44EA-9E9C-2BCC1082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C5B7E9-CC15-4D7D-8461-8EB17415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E42EB9-4D55-480A-B7B6-522F99D1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4F0C59-9CA2-42F7-82BF-D429A7833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58224C-4E29-4ABD-986D-255BAAD7E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786795-B0AC-42B8-A97F-70AAEE4D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D4CBBE-80AC-4886-A46A-9167CBCD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4DA953-8CCF-431B-B49A-D4E8163F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D2BF8C-F627-45CB-AEE7-E84AA853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741E84-D39C-4BE9-A56C-508D4BA5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86588A-CB83-4BB0-8206-60A08E1C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B87F-008F-4E06-B19F-3366D786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C8A1-EA96-40E0-AF09-07CB2D4F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C3F42F-3AF9-42DE-B5D9-120664EE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BC5AF7-EAD6-4BDE-A942-870B6682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64EE63-DA67-47DC-A721-8CE0FD68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0C285B-7E8E-4F25-A591-E06288F49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6464C8-2AFB-428A-ADF7-51FD9501C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30759C-D31B-43D6-9EE1-53C0823B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D803C9-C936-49AC-B38D-BC5F643C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AE1B99-0B91-4300-9C7F-B30BBD31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42D5DB-49B0-400C-82F9-BCCE8B5E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AABB45-45AB-4584-A34F-2D115058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F25A-46A3-4FF6-B701-618EC3C6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D3A768-C30F-4325-8052-EBF7F56E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1DA2C1-3B72-46E0-9124-84632C51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2EF38B-201C-4F82-972B-616A9EE9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F548CF-327A-49B3-B9B5-C2FFC0DB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8FEAE2-67C3-4AB7-B16A-B30D15F6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DD4491-1601-40B1-A07C-2BD927D1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21F698-80DA-4866-BEEB-F9EA10AD7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1669B8-EDCE-49C2-AB10-08B9265AA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73028C-B999-42BD-88B6-4EA68E96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BEEFFD-FC60-4D46-905F-2AD570E8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53C5-44F7-45F4-9C58-C3C7E15C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0C032B-DB62-410F-ABDA-63FC7968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BD6282-8BEC-479B-824D-7E96E589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72338C-C648-412C-9342-D9E80062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4B0A0F-0173-4EEC-A753-0E0C86A7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A8B69B-5583-4894-BFEA-C9CF88A8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0B4F39-F89C-4486-A72C-A8FBA83D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BED3C8-7361-43F8-9770-0A881BAD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25D551-D8C9-4172-97B6-E8D318410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3406ED-9B2A-40CE-AEFC-4732F723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9024DC-0770-44E2-B2B8-9DA9E9F89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169C-F4D2-4021-A0A3-47CA28965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C919AF-2E7F-40BD-808A-0C183804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7C9E52-24B1-4E43-8328-E53D78FE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E1E4D5-F8EC-4809-85D7-3C81937D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4FC618-8E01-45BE-8990-062CC28A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A6577F-B387-4A4A-976A-9AA98079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A9893C-48E9-47BE-8B79-4CB062C2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1DFD64-0254-469E-8927-EED4B9F9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E853E0-CFFD-4CC2-BC1C-BD26C77B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06B8AB-A7F1-4804-A93A-EBB555E9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34B4A2-EA9F-40A5-B9FF-07751A46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8D40-DECE-42A3-9E62-E0609664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88D4E8-A993-40F7-BFA9-C8C67826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D3B1CF-7FF6-41E3-B1AC-9054F557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3B64EB-36C2-462E-B43F-08A76BFD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19803B-3FD6-4C02-A087-35F4DCB6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5F1EBF-DAB2-4D4D-8C1F-2F71168F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02CBE9-32E4-40D5-BC1B-F38B4FC0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35592A-C001-4001-8E5E-F40FDAA7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9BC6AF-6447-4E89-9A2F-7D5BA978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1D139A-4F58-4865-8014-EA12285D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44640E-6DFD-4C3F-B7E9-E8CE3EDC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C64E0-7516-4111-80AC-A5D0E559F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316398-800D-4661-9290-8B82FA25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7A8DCB-D516-40D6-BC1C-F48C36705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B3FADF-2627-44AC-AA76-8243D3BE7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BA4EF-23A2-4F63-BFEF-C4BD1B27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C13A6-80B1-42C3-977C-C2732212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E041C-8731-4140-A87C-F3650B2C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32E38-6894-48F1-86FA-EEC1B7BE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190D-D3CC-47BB-9875-7C13BB45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C07FE-B98F-477D-9F47-6648EF4E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88470-C38B-495A-B816-4803D15C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FC1AB-B38A-4BAE-9F98-D8DA208C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1C675-4563-4BED-A3C2-C2BFDB07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F680F-7886-4BE6-8A82-95DB64E9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B8F1D-4384-4E68-9D15-1FF324905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8417F-5003-4172-8371-395E4BAC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A8C16-BB6C-4318-8228-F374C2FE5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DE79A-20D6-453B-8E31-58376F88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87700-F2B5-46F0-9367-CA027EEA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DA5F-B05E-460C-8D24-E434498A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83183-CD92-4868-A55B-A7827617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C8827-530F-45F7-8471-787C6187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1778E-57E5-4684-BAB6-7FF3B1EA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51692-0B7A-4EF2-9C06-B2012431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C0C34-6067-445C-AFF7-70688633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C0412-D8AF-418C-9D14-6A0FE1C7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8E1F2-2676-46C3-8564-EBC3ADF9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1A1A6-D1B7-4468-8919-A7262965C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9682D-92A5-4EEB-9F08-A7574ECA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67334-72D9-499F-8FC8-21F23D61A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A3A9-575E-47EE-83B8-BDC4F7A6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C08F6-FF67-41E6-94C6-E32F47D1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1C6B0-0C60-4B21-88B5-12C9C236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FF416-A2DF-48D0-B4B6-B79785DD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B4787-B855-46FA-8146-146ACD6E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A1E36-F2DC-4B8B-840A-448877BF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2C3B0-5961-4D39-9C99-21EA1A65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C6DA7-ADD4-4E87-A07D-8EDE2A33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76797-B4A7-4B65-9A37-2E9BAB22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A10A9-0626-442A-8AEB-E0EDB26B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2F24C-04B2-46D6-9C28-35D20D36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D7A8-6CAF-4051-B0C9-B748F71E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40E24-331B-44CE-A868-8EF2D8BE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01319-2FB5-4EB2-8832-C14617E6B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EE171-EE83-4E61-81BA-37809D31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FF5D6-A178-49CF-B91C-92B982C6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E642B-5EC9-4671-82F9-D1533C95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9C36B-7078-47D4-995D-58AE9338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C7590-6C96-4237-94CB-1D3D7BE4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3022B-A464-4846-A5E2-B6706E3B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42CB8-E038-4963-9D76-2223E38A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30CE9-B443-45C3-8C36-64628F82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90CB-C45D-482A-8250-C18399DA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0F85A-6E64-436A-823C-98511852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5416A-D3ED-45EE-A1E1-E3710BFE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92F82-1EBC-4F0A-9B22-810FF13E2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4C16E-7767-449B-981E-0EA4921E1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5939C-4CBC-4825-9BCD-61C9C676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1802C-4965-41BF-A3FE-CF3311EF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37B20-9595-4A2E-95B1-D5617C28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79EC8-7B93-4E19-9C67-002FF2CA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11892-AEE2-4271-8329-82568841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B68D4-D295-4FA3-A30E-D6818CC4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9115-EDAE-4541-9874-292A9111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55A07-6163-432E-8CB5-949B21F3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7672B-C5EC-4D64-8974-E6A919E4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B16FE-D23E-42EA-9CA4-740C8CA1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537F8-AA49-4146-A85D-2983EAE84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46297-8A88-4867-8CD6-46612ED4F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8EBC2-4CEC-4360-AB29-3BC3B84D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80D5D-BDC0-4AA4-B840-7D2733A3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DC7FB-9421-42D5-A957-17DBD83D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286DE-348E-49FF-A8FA-EDF3EAFF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9C170-6135-48DE-A069-F2F3B666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0F40-C708-49AB-94B6-D0EAF227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8081B-279D-407E-8003-A27A97D0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FB0AC-9BA3-4E09-8799-9DD07CDE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D4BF5-3577-48BF-9FE6-A55C441F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FF125-CF91-486E-94DB-5609AE46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B7DAE-AD5D-453F-937F-498BA525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D08A0-4F0C-48B9-8A93-1FF69AB33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7014B-FABE-42F6-8E7A-944CAACF2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E9D08-E901-42BB-ACCC-870C2BC9C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43FDA-558F-46DE-AE85-5C299956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61EBA-E96F-49D8-A38A-106DA8E3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361B-EECF-44BA-A2ED-F3AFC828B8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0257-7EA9-4247-9981-C1AC3B85BB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CFD8-B83D-47CE-9023-2DD9036C10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5EE3-485B-4F42-86A2-6101A34BC6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6EDB-69DC-41F3-BE54-6920F59ADD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FCEE-29F9-468E-A3B0-A0065334A4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2A21-F061-4921-9A63-7605EADD6E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7ABC-6F4B-40AA-89BA-34653103F7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9205-4680-4DD8-AD7A-3DDB1FB309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AE4B-4FDB-4F81-9A00-AB0FF6F862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53CA-8C4E-43AD-ABBD-2E4B31DB8C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B5ED-29CE-4EEE-A687-DCCCFCB276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05B7-7949-4736-B341-CDCA8715F1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DFF4-5627-47D4-837A-191CF3ED4F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F1A6-B6B1-4A17-A2BD-08BFD6F5C3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9684-063F-46A0-A589-8E69AEA7D8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6EA1-A70A-4F99-8CA1-DC752ABE15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87E8-6CBD-43A9-BAFF-DB6F64E32D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87FC-D61A-446C-A07F-FF840FDE5F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90B3-6628-465F-BEC0-F51989D828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A35E-49DB-464A-B89C-2073DA8156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4123-1AFB-4030-AD18-18DF7FF15C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AA2C-A4A1-4C01-9520-5C82BE1E3C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5B85-A93D-49D1-949E-BCA034828C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ED85-C443-4781-918C-F8D6C31B30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0AF4-63C7-4D83-8B68-9C776694A0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E67B-726B-410A-A4F9-CEEF198A77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9AB3-DDDE-4F1E-824B-E8B4D09538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A8DD-8343-4A14-B777-7E76E6B156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2229-0B03-4B59-9F15-A67437DACD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823E-7FA8-41A7-83AD-1810B6730C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CEF1-611D-4AB9-9C3C-697FC90B04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53FE-3308-4750-A10B-CC97E7F22D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53A6-7101-4875-BB1C-A512C45E74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6000-4FCA-4F70-BCA1-4BDFAFF0BC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D292-3FCC-4149-BC07-BE56AF4B1D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68BE-9323-40BE-9F96-C4FA658121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B972-ECC0-48DA-8980-9827475BDC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2002-3219-42BB-929F-86C71F7157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226B-AE34-4783-A512-8D96F5D212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538280" y="2995560"/>
            <a:ext cx="60674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图片 52231" descr=""/>
          <p:cNvPicPr/>
          <p:nvPr/>
        </p:nvPicPr>
        <p:blipFill>
          <a:blip r:embed="rId1"/>
          <a:stretch/>
        </p:blipFill>
        <p:spPr>
          <a:xfrm>
            <a:off x="552600" y="1352520"/>
            <a:ext cx="8038800" cy="41529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2"/>
          <a:stretch/>
        </p:blipFill>
        <p:spPr>
          <a:xfrm>
            <a:off x="1042920" y="4221000"/>
            <a:ext cx="3457800" cy="5065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3"/>
          <a:stretch/>
        </p:blipFill>
        <p:spPr>
          <a:xfrm>
            <a:off x="971640" y="4927680"/>
            <a:ext cx="698508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图片 69633" descr=""/>
          <p:cNvPicPr/>
          <p:nvPr/>
        </p:nvPicPr>
        <p:blipFill>
          <a:blip r:embed="rId1"/>
          <a:stretch/>
        </p:blipFill>
        <p:spPr>
          <a:xfrm>
            <a:off x="219240" y="754200"/>
            <a:ext cx="8705520" cy="591480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2"/>
          <a:stretch/>
        </p:blipFill>
        <p:spPr>
          <a:xfrm>
            <a:off x="5651640" y="4581360"/>
            <a:ext cx="1441440" cy="5065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3"/>
          <a:stretch/>
        </p:blipFill>
        <p:spPr>
          <a:xfrm>
            <a:off x="5651640" y="5257800"/>
            <a:ext cx="1441440" cy="50652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4"/>
          <a:stretch/>
        </p:blipFill>
        <p:spPr>
          <a:xfrm>
            <a:off x="6588000" y="5978520"/>
            <a:ext cx="144144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428760" y="57240"/>
            <a:ext cx="8286480" cy="67435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570040" y="6337440"/>
            <a:ext cx="792360" cy="5061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6630840" y="6323040"/>
            <a:ext cx="108108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图片 59410" descr=""/>
          <p:cNvPicPr/>
          <p:nvPr/>
        </p:nvPicPr>
        <p:blipFill>
          <a:blip r:embed="rId1"/>
          <a:stretch/>
        </p:blipFill>
        <p:spPr>
          <a:xfrm>
            <a:off x="609480" y="1147680"/>
            <a:ext cx="7925040" cy="45626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2"/>
          <a:stretch/>
        </p:blipFill>
        <p:spPr>
          <a:xfrm>
            <a:off x="2411280" y="1959120"/>
            <a:ext cx="1368720" cy="5061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3"/>
          <a:stretch/>
        </p:blipFill>
        <p:spPr>
          <a:xfrm>
            <a:off x="5508720" y="1974960"/>
            <a:ext cx="2448000" cy="5061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4"/>
          <a:stretch/>
        </p:blipFill>
        <p:spPr>
          <a:xfrm>
            <a:off x="5435640" y="2781360"/>
            <a:ext cx="1368360" cy="5065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5"/>
          <a:stretch/>
        </p:blipFill>
        <p:spPr>
          <a:xfrm>
            <a:off x="3073320" y="3573360"/>
            <a:ext cx="1368360" cy="5065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6"/>
          <a:stretch/>
        </p:blipFill>
        <p:spPr>
          <a:xfrm>
            <a:off x="5508720" y="4365720"/>
            <a:ext cx="1368360" cy="5061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7"/>
          <a:stretch/>
        </p:blipFill>
        <p:spPr>
          <a:xfrm>
            <a:off x="4788000" y="5157720"/>
            <a:ext cx="136836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76801" descr=""/>
          <p:cNvPicPr/>
          <p:nvPr/>
        </p:nvPicPr>
        <p:blipFill>
          <a:blip r:embed="rId1"/>
          <a:stretch/>
        </p:blipFill>
        <p:spPr>
          <a:xfrm>
            <a:off x="581040" y="885960"/>
            <a:ext cx="7981920" cy="50860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6372360" y="966960"/>
            <a:ext cx="792000" cy="5061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6372360" y="1974960"/>
            <a:ext cx="1224000" cy="5061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5219640" y="4624560"/>
            <a:ext cx="1944720" cy="5061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5076720" y="5430960"/>
            <a:ext cx="151128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8373" descr=""/>
          <p:cNvPicPr/>
          <p:nvPr/>
        </p:nvPicPr>
        <p:blipFill>
          <a:blip r:embed="rId1"/>
          <a:stretch/>
        </p:blipFill>
        <p:spPr>
          <a:xfrm>
            <a:off x="1076400" y="1023840"/>
            <a:ext cx="6991200" cy="48103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4067280" y="1989000"/>
            <a:ext cx="1296720" cy="5065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4500720" y="2795760"/>
            <a:ext cx="1296720" cy="5061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4"/>
          <a:stretch/>
        </p:blipFill>
        <p:spPr>
          <a:xfrm>
            <a:off x="3851280" y="3659040"/>
            <a:ext cx="1297080" cy="5065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5"/>
          <a:stretch/>
        </p:blipFill>
        <p:spPr>
          <a:xfrm>
            <a:off x="3780000" y="4408560"/>
            <a:ext cx="936360" cy="5065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6"/>
          <a:stretch/>
        </p:blipFill>
        <p:spPr>
          <a:xfrm>
            <a:off x="3995640" y="5172120"/>
            <a:ext cx="936720" cy="5065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7"/>
          <a:stretch/>
        </p:blipFill>
        <p:spPr>
          <a:xfrm>
            <a:off x="6227640" y="5172120"/>
            <a:ext cx="93672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7352" descr=""/>
          <p:cNvPicPr/>
          <p:nvPr/>
        </p:nvPicPr>
        <p:blipFill>
          <a:blip r:embed="rId1"/>
          <a:stretch/>
        </p:blipFill>
        <p:spPr>
          <a:xfrm>
            <a:off x="1876320" y="2281320"/>
            <a:ext cx="5391360" cy="22953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2556000" y="2276640"/>
            <a:ext cx="1368360" cy="5061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3995640" y="3083040"/>
            <a:ext cx="1368360" cy="5061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4932360" y="3919680"/>
            <a:ext cx="136836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6324" descr=""/>
          <p:cNvPicPr/>
          <p:nvPr/>
        </p:nvPicPr>
        <p:blipFill>
          <a:blip r:embed="rId1"/>
          <a:stretch/>
        </p:blipFill>
        <p:spPr>
          <a:xfrm>
            <a:off x="347760" y="1571760"/>
            <a:ext cx="8448480" cy="3714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2454120" y="2722680"/>
            <a:ext cx="489240" cy="3902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6056280" y="2751120"/>
            <a:ext cx="488880" cy="39060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4"/>
          <a:stretch/>
        </p:blipFill>
        <p:spPr>
          <a:xfrm>
            <a:off x="2238480" y="3687840"/>
            <a:ext cx="488880" cy="3906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5"/>
          <a:stretch/>
        </p:blipFill>
        <p:spPr>
          <a:xfrm>
            <a:off x="6199200" y="3687840"/>
            <a:ext cx="488880" cy="39060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6"/>
          <a:stretch/>
        </p:blipFill>
        <p:spPr>
          <a:xfrm>
            <a:off x="2224080" y="4624560"/>
            <a:ext cx="488880" cy="3902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7"/>
          <a:stretch/>
        </p:blipFill>
        <p:spPr>
          <a:xfrm>
            <a:off x="6473880" y="4638600"/>
            <a:ext cx="488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55300" descr=""/>
          <p:cNvPicPr/>
          <p:nvPr/>
        </p:nvPicPr>
        <p:blipFill>
          <a:blip r:embed="rId1"/>
          <a:stretch/>
        </p:blipFill>
        <p:spPr>
          <a:xfrm>
            <a:off x="347760" y="1695600"/>
            <a:ext cx="8448480" cy="346680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2"/>
          <a:stretch/>
        </p:blipFill>
        <p:spPr>
          <a:xfrm>
            <a:off x="971640" y="4595760"/>
            <a:ext cx="792144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54276" descr=""/>
          <p:cNvPicPr/>
          <p:nvPr/>
        </p:nvPicPr>
        <p:blipFill>
          <a:blip r:embed="rId1"/>
          <a:stretch/>
        </p:blipFill>
        <p:spPr>
          <a:xfrm>
            <a:off x="233280" y="743040"/>
            <a:ext cx="8677440" cy="56386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3044880" y="2349360"/>
            <a:ext cx="792000" cy="5065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6905520" y="2349360"/>
            <a:ext cx="792360" cy="5065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3262320" y="3068640"/>
            <a:ext cx="1165320" cy="5065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5"/>
          <a:stretch/>
        </p:blipFill>
        <p:spPr>
          <a:xfrm>
            <a:off x="6877080" y="3068640"/>
            <a:ext cx="1165320" cy="5065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6"/>
          <a:stretch/>
        </p:blipFill>
        <p:spPr>
          <a:xfrm>
            <a:off x="3262320" y="5113440"/>
            <a:ext cx="1886040" cy="5061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7"/>
          <a:stretch/>
        </p:blipFill>
        <p:spPr>
          <a:xfrm>
            <a:off x="7107120" y="5157720"/>
            <a:ext cx="1886040" cy="5065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8"/>
          <a:stretch/>
        </p:blipFill>
        <p:spPr>
          <a:xfrm>
            <a:off x="3059280" y="5877000"/>
            <a:ext cx="1885680" cy="5061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9"/>
          <a:stretch/>
        </p:blipFill>
        <p:spPr>
          <a:xfrm>
            <a:off x="7107120" y="5877000"/>
            <a:ext cx="188604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8:01:03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